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32B-AFA0-4320-BFBE-C0FBCDFF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808-01A4-4808-B22F-9756A24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7BF-E25D-47B8-97D0-10548DCC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D1E-8FCC-4A4B-869E-51524ED9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D89-70A8-409D-B986-54FF1D06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FABF-F97C-489D-95AD-940AFD12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4883-5053-4C4B-8395-74F77DBE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B91-D07C-4A40-A43D-B7F98C27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C5CC-B4BD-4EDF-8D13-7D549B23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6DC-2A88-4592-B685-64B74DC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1179-B717-41F0-A5DA-7D97C343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102-089A-4315-8423-FBF01C0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DE0-3E0D-4EA8-A742-52E3804C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E25C-5FB7-4A53-9806-3D44AAD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6B6-3F1D-4E8F-AFFF-D4ED616C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5DCB-B1C9-4C10-A885-D6EFF50A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1402-DA5B-45BE-9780-6ABE8220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53A-C6B8-4E88-A918-59BEFFD2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8C0-2193-4826-97F0-639CC35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891-93BC-4F97-B0A7-D73F26E8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2D7-0BD0-4C66-BAAF-3C851468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E7B-29B9-46AA-8A9E-99162A6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81B-1387-48F9-A613-21E32F6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F05-794A-40E5-B724-361C9AA3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058-FA83-4D37-AFCB-902E6637082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54AE-A1AA-48DA-8AA1-A6EB66CE0B8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Times New Roman"/>
              </a:rPr>
              <a:t>Dividing Polynomial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e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1440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ing a polynomial by a mo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55440" y="1901880"/>
          <a:ext cx="5832720" cy="17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01880"/>
                    <a:ext cx="583272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2590920" y="3733920"/>
          <a:ext cx="579096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733920"/>
                    <a:ext cx="57909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8"/>
          <p:cNvGraphicFramePr/>
          <p:nvPr/>
        </p:nvGraphicFramePr>
        <p:xfrm>
          <a:off x="2666880" y="5791320"/>
          <a:ext cx="35928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791320"/>
                    <a:ext cx="3592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3124080" y="5791320"/>
            <a:ext cx="3124440" cy="6858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2403360" y="3505320"/>
          <a:ext cx="616608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3505320"/>
                    <a:ext cx="61660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2560680" y="5737320"/>
          <a:ext cx="380664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0680" y="5737320"/>
                    <a:ext cx="3806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3048120" y="5715000"/>
            <a:ext cx="327636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79440" y="1211400"/>
          <a:ext cx="655488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440" y="1211400"/>
                    <a:ext cx="65548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3662280" y="3352680"/>
          <a:ext cx="364644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3352680"/>
                    <a:ext cx="36464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479840" y="5562720"/>
          <a:ext cx="2467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5562720"/>
                    <a:ext cx="24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5"/>
          <p:cNvSpPr/>
          <p:nvPr/>
        </p:nvSpPr>
        <p:spPr>
          <a:xfrm>
            <a:off x="5029200" y="5486400"/>
            <a:ext cx="190512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650880" y="1211400"/>
          <a:ext cx="431316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880" y="1211400"/>
                    <a:ext cx="43131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Long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16002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ink back to long division from 3rd gr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Example :  227 ÷ 3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"/>
          <p:cNvSpPr/>
          <p:nvPr/>
        </p:nvSpPr>
        <p:spPr>
          <a:xfrm>
            <a:off x="3048120" y="3581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870200" y="2819520"/>
          <a:ext cx="49114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2819520"/>
                    <a:ext cx="4911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812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394080" y="3625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82760" y="35719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3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05320" y="304812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14800" y="4267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0384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334120" y="42670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038480" y="4876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334120" y="48769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114800" y="563868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0400" y="441972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1320" y="5638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657600" y="4876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505320" y="2133720"/>
            <a:ext cx="1600200" cy="7617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9" name="Object 25"/>
          <p:cNvGraphicFramePr/>
          <p:nvPr/>
        </p:nvGraphicFramePr>
        <p:xfrm>
          <a:off x="174600" y="50760"/>
          <a:ext cx="442584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00" y="50760"/>
                    <a:ext cx="44258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Line 26"/>
          <p:cNvSpPr/>
          <p:nvPr/>
        </p:nvSpPr>
        <p:spPr>
          <a:xfrm>
            <a:off x="4724280" y="434340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3"/>
          <p:cNvSpPr/>
          <p:nvPr/>
        </p:nvSpPr>
        <p:spPr>
          <a:xfrm>
            <a:off x="5410080" y="5181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3809880" y="4038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666880" y="2743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5" name="Object 3"/>
          <p:cNvGraphicFramePr/>
          <p:nvPr/>
        </p:nvGraphicFramePr>
        <p:xfrm>
          <a:off x="1585800" y="1981080"/>
          <a:ext cx="66931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981080"/>
                    <a:ext cx="66931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4"/>
          <p:cNvSpPr/>
          <p:nvPr/>
        </p:nvSpPr>
        <p:spPr>
          <a:xfrm>
            <a:off x="3048120" y="914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48120" y="28195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25720" y="274320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276720" y="22096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62520" y="35053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7339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4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295960" y="342900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1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267080" y="4038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257800" y="403848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6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267080" y="480060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971800" y="358128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1320" y="4724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2971800" y="914400"/>
            <a:ext cx="5257800" cy="114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0" name="Object 22"/>
          <p:cNvGraphicFramePr/>
          <p:nvPr/>
        </p:nvGraphicFramePr>
        <p:xfrm>
          <a:off x="-50760" y="-111240"/>
          <a:ext cx="745812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0760" y="-111240"/>
                    <a:ext cx="745812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24"/>
          <p:cNvSpPr/>
          <p:nvPr/>
        </p:nvSpPr>
        <p:spPr>
          <a:xfrm>
            <a:off x="4648320" y="3581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6553080" y="4724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2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5105520" y="990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5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791320" y="5257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6629400" y="5257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Line 34"/>
          <p:cNvSpPr/>
          <p:nvPr/>
        </p:nvSpPr>
        <p:spPr>
          <a:xfrm>
            <a:off x="5562720" y="601992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Line 35"/>
          <p:cNvSpPr/>
          <p:nvPr/>
        </p:nvSpPr>
        <p:spPr>
          <a:xfrm>
            <a:off x="6019920" y="4724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934320" y="5943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8"/>
          <p:cNvGraphicFramePr/>
          <p:nvPr/>
        </p:nvGraphicFramePr>
        <p:xfrm>
          <a:off x="6172200" y="920880"/>
          <a:ext cx="1600200" cy="12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920880"/>
                    <a:ext cx="16002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Karen</cp:lastModifiedBy>
  <dcterms:modified xsi:type="dcterms:W3CDTF">2012-03-19T06:48:14Z</dcterms:modified>
  <cp:revision>43</cp:revision>
  <dc:subject/>
  <dc:title>No Slide Title</dc:title>
</cp:coreProperties>
</file>